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01FE1-3398-4311-8A31-91EE7BFB2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EA2CF-104F-4E67-818A-5349EA3F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6263-25FD-4FFD-9134-AEE9CA5DC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388C9-2CEA-4A84-ABA0-B3B934FE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EA2D-EA8A-4505-A767-37DB032C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B0A1-69DD-447D-8A11-AEF569AE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15C28-EE27-4108-B4FF-FE7ACF4AE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D5F7E-A1F6-4085-822F-C43F089A6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23DAE-352B-4689-A537-098FAA9AB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79C8-3548-4788-BEBE-19D6C288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74D0-64AB-4E7B-838E-FF4EBB54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6F78-2676-466D-9932-2DFCF5FF4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AAF6-E554-42E5-9668-FA7BDCCE7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sentation</a:t>
            </a:r>
            <a:br>
              <a:rPr sz="4400"/>
            </a:b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y Mitchell, Savannah, Ryan Period 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ed to the fall of Mal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li was strong at first. In fact it was too strong. It was too strong that it even grew to a big country, but because of that it became we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growth make Mali Weaker</a:t>
            </a:r>
            <a:endParaRPr b="0" lang="en-US" sz="4400" spc="-1" strike="noStrike">
              <a:solidFill>
                <a:srgbClr val="000000"/>
              </a:solidFill>
              <a:latin typeface="Calibri"/>
            </a:endParaRPr>
          </a:p>
        </p:txBody>
      </p:sp>
      <p:pic>
        <p:nvPicPr>
          <p:cNvPr id="46" name="Picture 7" descr=""/>
          <p:cNvPicPr/>
          <p:nvPr/>
        </p:nvPicPr>
        <p:blipFill>
          <a:blip r:embed="rId1"/>
          <a:stretch/>
        </p:blipFill>
        <p:spPr>
          <a:xfrm>
            <a:off x="6019920" y="4495680"/>
            <a:ext cx="2523960" cy="1809720"/>
          </a:xfrm>
          <a:prstGeom prst="rect">
            <a:avLst/>
          </a:prstGeom>
          <a:ln w="0">
            <a:noFill/>
          </a:ln>
        </p:spPr>
      </p:pic>
      <p:sp>
        <p:nvSpPr>
          <p:cNvPr id="47" name="TextBox 8"/>
          <p:cNvSpPr/>
          <p:nvPr/>
        </p:nvSpPr>
        <p:spPr>
          <a:xfrm>
            <a:off x="533520" y="1523880"/>
            <a:ext cx="7848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li was too big for one man too lead. There were few men who were strong enough too handle that big enough of a country and it ended up that they lost most of it. There were no strong enough leaders, and one of them was Mansa Mus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sa Musa</a:t>
            </a:r>
            <a:endParaRPr b="0" lang="en-US" sz="4400" spc="-1" strike="noStrike">
              <a:solidFill>
                <a:srgbClr val="000000"/>
              </a:solidFill>
              <a:latin typeface="Calibri"/>
            </a:endParaRPr>
          </a:p>
        </p:txBody>
      </p:sp>
      <p:pic>
        <p:nvPicPr>
          <p:cNvPr id="49" name="Picture 6" descr=""/>
          <p:cNvPicPr/>
          <p:nvPr/>
        </p:nvPicPr>
        <p:blipFill>
          <a:blip r:embed="rId1"/>
          <a:stretch/>
        </p:blipFill>
        <p:spPr>
          <a:xfrm>
            <a:off x="6286680" y="3429000"/>
            <a:ext cx="2857320" cy="3429000"/>
          </a:xfrm>
          <a:prstGeom prst="rect">
            <a:avLst/>
          </a:prstGeom>
          <a:ln w="0">
            <a:noFill/>
          </a:ln>
        </p:spPr>
      </p:pic>
      <p:sp>
        <p:nvSpPr>
          <p:cNvPr id="50" name="TextBox 8"/>
          <p:cNvSpPr/>
          <p:nvPr/>
        </p:nvSpPr>
        <p:spPr>
          <a:xfrm>
            <a:off x="457200" y="1219320"/>
            <a:ext cx="81532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nsa Musa was one of Mali’s few good leaders, after it got too big. He was born on 1312 and died on 1337. Mansa Musa was an important man to Mali also for traveling a hajj to Mecca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ing the people fro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re the new worl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ven though he was this gre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ero, his son wasn’t as gre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ha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3200" spc="-1" strike="noStrike">
                <a:solidFill>
                  <a:srgbClr val="ff0000"/>
                </a:solidFill>
                <a:latin typeface="Calibri"/>
              </a:rPr>
              <a:t>This was Mansa Musa’s son. He wasn’t as strong as his dad, and possibly could’ve led to the Fall of Mali. Though he wasn’t alone. Future and previous leaders also led to the Fall of Mali.</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t ended up that Mali got down to a small little country. Have you ever heard someone say you can never have too much good stuff, well they’re wrong, you can’t. Mali though grew it by bit and came what it is today.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7" descr=""/>
          <p:cNvPicPr/>
          <p:nvPr/>
        </p:nvPicPr>
        <p:blipFill>
          <a:blip r:embed="rId1"/>
          <a:stretch/>
        </p:blipFill>
        <p:spPr>
          <a:xfrm>
            <a:off x="6019920" y="4495680"/>
            <a:ext cx="2523960" cy="18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10:34Z</dcterms:created>
  <dc:creator>Student</dc:creator>
  <dc:description/>
  <dc:language>en-US</dc:language>
  <cp:lastModifiedBy>Student</cp:lastModifiedBy>
  <dcterms:modified xsi:type="dcterms:W3CDTF">2010-12-09T01:45:55Z</dcterms:modified>
  <cp:revision>2</cp:revision>
  <dc:subject/>
  <dc:title>Presentation  </dc:title>
</cp:coreProperties>
</file>